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A370-63F6-422C-8462-3AC9A53A81ED}"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CD00-FB10-49F7-AB8F-079D786688E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4A22-E779-4563-9785-AB61B3BAF9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EA5E-174E-4B13-9553-B44D523B789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2929-AF87-45A0-8910-54AF64F3C16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2863-AF7C-41FD-B45C-3F6C5A4C007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52E3-C508-4402-8AFD-8A64382A8BF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EBFB-CA16-4B56-A55B-10E7FF2C3F6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1287-737A-42C6-8348-7029B37F17F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BD25-1F02-4652-9596-D7B64646AC6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094C-1C60-4DC0-8CAC-B30B9975523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B2BE-4187-4F28-BD98-FDAFC5AA781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49F2-3846-4520-A8A7-61CB466F681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A084-8A66-455C-AB9E-2BEC3858334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BB22-B022-4D51-9690-5E19C1F4356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68AB-4E9E-4219-A1AD-0C199AEB838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38D6-CFE4-434A-A1A6-54CBAF69CB3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3A34-F57B-4BB9-8865-BE885D93AA8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2D18-4FA5-4135-B778-7CBE685D01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FA92-50C9-47D4-9E3A-D98A7A0E615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A3F7-69A8-4F13-8700-EB112E04A0D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2241C-2578-443F-8909-7CD2364C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CB19-D965-4A9F-B930-B9F0A962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95D66-C5F5-4245-8B88-AFD419EFD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9025F-90A6-4E57-AE53-43428F47B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8019F-A885-4006-8C47-0B8F551E4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63722-1956-4164-9CAA-0F95C3428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B8C4A-06B4-4447-9AF4-96EF58B06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77DB-15FF-4A16-8E17-6B11748E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38505-BDCE-4CF1-9EB2-2C88C7D2A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BD248-8C2D-4F53-ACFF-1D97D3DE9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08B24-5D9E-4A80-8CE6-16A65027E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253A-FF7E-4CA7-BFE7-5367BB46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B86F-968E-4486-BCB4-D1563CB82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C5F23-49EC-4D43-AA79-F63066916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CAAA0-44E9-4AB4-BF3D-773AF525F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4BC7F-7478-446B-AFCA-FFF38B9DE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04E64-FE44-4E49-9543-BA70E8E3D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B4AB41-E186-45EC-B75B-FF493BB51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D9317F-8844-4F58-9FA2-114367E3A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D71271-3767-442D-B188-37674DDDE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2989FF-2A86-4A60-9A70-FA1901113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28385F-BC2E-4EFB-A500-7E0238321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DC633-E512-40DF-8885-FC82EAD4E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F98AD8-ACFE-4F62-8076-FC48A3EF2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73266B-4F5A-4D58-BF39-DB198456F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1580C6-7E91-4278-BD90-24DFFEC93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5B661A-CF27-4408-8FEB-E24B0710F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A6D2E8-8FA2-468E-BA92-5BE741EB4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336009-9146-481F-88E0-6E703C58E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6891BE-00ED-47BD-A92E-7335200CE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442B02-3B37-432B-BE37-5111EA702D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4B5BD1-9D4A-4A39-BF8E-3ACD3DD34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B3E488-7542-4B93-B57C-1B47A4D5A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E5B7-DC03-41BC-B88A-11ABF02E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BC3810A-C805-41D2-8EAC-DDD690772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D75DCB-D7CE-4528-B410-709539584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548E0E-4909-4FF4-A25F-44394F071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944661-E950-4510-AE8F-4492AFA10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0E22A5-B6B3-4526-BB08-E39A060B7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090916-692F-4ABE-8AFE-B06B79474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E007D1-2167-4D0A-B9C6-DA6E2A449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D52EF6-2716-4868-A10F-82AF46A04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0357F5-1DFC-43AD-82C4-BBDD35860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9C8DD8-1DDA-4CFB-966C-33D7D7B7E7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C7BE-B552-491A-8AAE-7F5BFF80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D8A72F-24C3-491B-8D59-8282C438D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4A1A01-9B91-42F6-810E-03FCDC5CB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261B69-A560-401F-919C-31E6390D9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6CEC96-2BBB-4922-9564-4C32A658E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8CCB7F-D4C3-4158-BDE6-6289D9B61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7CE147-91B6-45CC-B478-FB4D23666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3DFFDA-E9BD-489F-8B15-66B46BFFF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107C5A-946F-49E6-9814-43290C0CEE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06276B-5FD7-4E8E-8C5F-9FF897FFA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4C36D3-D4DF-4848-9A6D-170C8E1183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0B78B-6392-4BEC-9646-73BDFDB3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B54AD44-4723-447A-B88F-0B7EAC0910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81AF8-9853-4325-8634-A5B256E20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9333E-770B-4AC8-98AA-4234A49D6F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5CAA7-F2EB-4276-ADB6-B85A1CB32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4722C9-646D-4718-9121-4ED1639A9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784C5-9131-4C0B-B609-045283242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DEBD9-341A-485A-B7DC-7EF064077E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83446-2224-4CF4-8656-D80DD8897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F0408-DE1F-4DAF-91EF-2546C48C1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7CB3C-7702-462C-930C-E127F0841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3B02-5A68-4860-BFE5-924B681E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BE1511-059F-4AB4-8340-130A49D47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D04A5-D0F6-4EE4-913F-FB663A1880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70ADA7-115A-43DF-AD71-345C24160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9090AF9-FD11-495A-898E-E5CA211E37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31C59D9-8E52-4045-B262-69D3F529B3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2B0AB50-FA3F-4D78-B303-752A6689B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51F13C-9E75-4228-92F1-156E86FB5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F1EC74-0A36-4CDC-A41C-FE77D643B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1954D7-4D39-4E1B-8097-BBA12F44E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F602C6-D388-44A3-971E-4AD8020E6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7C02-7488-4BA8-A4FB-17768DA6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49754E-64DD-4BA6-B261-A1A493122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ABD3C3-CF25-469B-BC68-CBC30EF4D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146061-456B-4CB4-B991-39794A530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B0478FA-DAF9-467D-986F-DD45A9711E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47423CF-8C97-4DCF-8729-9FA12E76E1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9DCE5C-37DB-45E9-AD60-700F5EFC12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97C9D-1922-4D0A-AACC-53FF061098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A4997-A002-422D-98FF-DC4209C234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8CCCE-F510-4FC2-867D-BDCBCF4BAC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3C1E2-45F3-430C-BF00-FDE42A2966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C0A7-3F82-4987-A786-187CE98A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4A344-F4E8-4D0B-9346-382EB4A67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4A0CF-1DF5-4A7C-BD30-6260588F7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36612-B253-4836-950D-34CC6B102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A9269-CD6B-4996-AF5D-06C6C9905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F758AF-7A0C-4E9A-BE78-D2312052D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EC120-1241-443B-BB4E-5E157C8048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7715EE-5206-41A0-AADF-A4C7C18409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FEDF-AB3D-4A43-BA6B-95CDF93F7DA3}"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72EA-EBB1-4405-AFCA-1285FD770B4E}" type="slidenum">
              <a:rPr b="1" lang="el-GR"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4DEB-8708-43FC-B556-4FCDEBE35B44}" type="slidenum">
              <a:rPr b="1" lang="el-GR"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BAF8-F885-4713-8770-25798FCE8AA8}"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79ED-9976-4752-A818-95FC667E6DF9}"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B8E7-1799-4CA8-B3C2-DBC957A022F5}" type="slidenum">
              <a:rPr b="1" lang="el-GR"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B574-03FD-4605-8043-1BE6C83B637B}" type="slidenum">
              <a:rPr b="1" lang="el-GR"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9CD2-DB81-4559-A563-04684BB04EAD}"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elexanth@yahoo.gr"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bddc3"/>
                </a:solidFill>
                <a:latin typeface="Calibri"/>
              </a:rPr>
              <a:t>ΕΚΠΑΙΔΕΥΣΗ ΜΕΣΑ ΑΠΟ ΤΗΝ ΤΕΧΝΗ</a:t>
            </a:r>
            <a:endParaRPr b="0" lang="en-US" sz="2800" spc="-1" strike="noStrike">
              <a:solidFill>
                <a:srgbClr val="ebddc3"/>
              </a:solidFill>
              <a:latin typeface="Calibri"/>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Ελένη Ξανθάκου</a:t>
            </a:r>
            <a:endParaRPr b="0" lang="en-US" sz="20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2</a:t>
            </a:r>
            <a:r>
              <a:rPr b="0" lang="el-GR" sz="2000" spc="-1" strike="noStrike" baseline="30000">
                <a:solidFill>
                  <a:srgbClr val="ffffff"/>
                </a:solidFill>
                <a:latin typeface="Calibri"/>
              </a:rPr>
              <a:t>ο</a:t>
            </a:r>
            <a:r>
              <a:rPr b="0" lang="el-GR" sz="2000" spc="-1" strike="noStrike">
                <a:solidFill>
                  <a:srgbClr val="ffffff"/>
                </a:solidFill>
                <a:latin typeface="Calibri"/>
              </a:rPr>
              <a:t>  Πρότυπο Πειραματικό Γυμνάσιο Αθήνας</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Εικαστικές Τέχνες και το Παιδί</a:t>
            </a:r>
            <a:endParaRPr b="0" lang="en-US" sz="2800" spc="-1" strike="noStrike">
              <a:solidFill>
                <a:srgbClr val="775f55"/>
              </a:solidFill>
              <a:latin typeface="Calibri"/>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σχέδιο και η ζωγραφική γίνεται βασικό μέσο επικοινωνίας των παιδιών.</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παιδικό σχέδιο είναι ένα πανίσχυρο μέσο διαπραγμάτευσης, αποτύπωσης και έκφρασης των συναισθημάτων, των ενδιαφερόντων, των σκέψεων, των αφηγήσεων και των προσδοκιών των δημιουργών τους, ένα παράθυρο στον εσωτερικό τους κόσμο (</a:t>
            </a:r>
            <a:r>
              <a:rPr b="0" lang="en-GB" sz="2000" spc="-1" strike="noStrike">
                <a:solidFill>
                  <a:srgbClr val="000000"/>
                </a:solidFill>
                <a:latin typeface="Tw Cen MT"/>
              </a:rPr>
              <a:t>Anning </a:t>
            </a:r>
            <a:r>
              <a:rPr b="0" lang="el-GR" sz="2000" spc="-1" strike="noStrike">
                <a:solidFill>
                  <a:srgbClr val="000000"/>
                </a:solidFill>
                <a:latin typeface="Calibri"/>
              </a:rPr>
              <a:t>και </a:t>
            </a:r>
            <a:r>
              <a:rPr b="0" lang="en-GB" sz="2000" spc="-1" strike="noStrike">
                <a:solidFill>
                  <a:srgbClr val="000000"/>
                </a:solidFill>
                <a:latin typeface="Tw Cen MT"/>
              </a:rPr>
              <a:t>Ring, 200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Εικαστικές Τέχνες στην εκπαιδευτική διαδικασία</a:t>
            </a:r>
            <a:endParaRPr b="0" lang="en-US" sz="2800" spc="-1" strike="noStrike">
              <a:solidFill>
                <a:srgbClr val="775f55"/>
              </a:solidFill>
              <a:latin typeface="Calibri"/>
            </a:endParaRPr>
          </a:p>
        </p:txBody>
      </p:sp>
      <p:sp>
        <p:nvSpPr>
          <p:cNvPr id="378" name=""/>
          <p:cNvSpPr txBox="1"/>
          <p:nvPr/>
        </p:nvSpPr>
        <p:spPr>
          <a:xfrm>
            <a:off x="612720" y="1600200"/>
            <a:ext cx="8153280" cy="4495680"/>
          </a:xfrm>
          <a:prstGeom prst="rect">
            <a:avLst/>
          </a:prstGeom>
          <a:noFill/>
          <a:ln w="0">
            <a:noFill/>
          </a:ln>
        </p:spPr>
        <p:txBody>
          <a:bodyPr anchor="t">
            <a:normAutofit fontScale="98000"/>
          </a:bodyPr>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εικαστική διαδικασία προάγει τη διαρκή ανάδειξη προβλημάτων και την αναζήτηση πρωτότυπων λύσεων.</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προσφέρουν πολύτιμες αισθητικές εμπειρίες.</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μαθητές δραστηριοποιούνται εικαστικά περισσότερο για την ποιότητα της εμπειρίας και πολύ λιγότερο για εξωγενείς απολαβές (Eisner, 2002). </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διευρύνουν τη φαντασία, την εφευρετικότητα και τη δημιουργικότητα των μαθητών.</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φωτίζουν τις πολλαπλές πλευρές της ζωής ενισχύοντας την αυτογνωσία.</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εικαστική εμπειρία συνεπάγεται γλωσσική επικοινωνία και ανάπτυξη.</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α παιδιά συναντούν επαγγελματίες καλλιτέχνες και εξοικειώνονται με εναλλακτικά επαγγελματικά μοντέλ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Στόχος εισαγωγής Εικαστικών Τεχνών στην εκπαιδευτική διαδικασία</a:t>
            </a:r>
            <a:endParaRPr b="0" lang="en-US" sz="2800" spc="-1" strike="noStrike">
              <a:solidFill>
                <a:srgbClr val="775f55"/>
              </a:solidFill>
              <a:latin typeface="Calibri"/>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νάπτυξη οπτικού εγγραματισμού (</a:t>
            </a:r>
            <a:r>
              <a:rPr b="0" lang="en-US" sz="2000" spc="-1" strike="noStrike">
                <a:solidFill>
                  <a:srgbClr val="000000"/>
                </a:solidFill>
                <a:latin typeface="Tw Cen MT"/>
              </a:rPr>
              <a:t>visual literacy)</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κοινωνία με άνεση μέσα από τη δημιουργία εικαστικών και οπτικών μορφών</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νεργή και κριτική ανάγνωση εικόνων</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λόπλευρη ανάπτυξη των μαθητών μέσα από ένα μοντέλο βιωματικής και εμπειρικής μάθηση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75f55"/>
                </a:solidFill>
                <a:latin typeface="Calibri"/>
              </a:rPr>
              <a:t>…</a:t>
            </a:r>
            <a:r>
              <a:rPr b="0" lang="el-GR" sz="2400" spc="-1" strike="noStrike">
                <a:solidFill>
                  <a:srgbClr val="775f55"/>
                </a:solidFill>
                <a:latin typeface="Calibri"/>
              </a:rPr>
              <a:t>χρησιμοποιεί τη μέθοδο ‘Μετασχηματίζουσα Μάθηση μέσα από την Τέχνη’ (Κόκκος, Α.,2011)</a:t>
            </a:r>
            <a:endParaRPr b="0" lang="en-US" sz="2400" spc="-1" strike="noStrike">
              <a:solidFill>
                <a:srgbClr val="000000"/>
              </a:solidFill>
              <a:latin typeface="Calibri"/>
            </a:endParaRPr>
          </a:p>
        </p:txBody>
      </p:sp>
      <p:sp>
        <p:nvSpPr>
          <p:cNvPr id="38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62626"/>
                </a:solidFill>
                <a:latin typeface="Calibri"/>
              </a:rPr>
              <a:t>Το πρόγραμμα ‘Εκπαίδευση μέσα από την Τέχνη’…</a:t>
            </a:r>
            <a:endParaRPr b="0" lang="en-US" sz="28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Οι εκπαιδευόμενοι παρατηρούν και επεξεργάζονται έργα τέχνης, των οποίων το περιεχόμενο σχετίζεται με το περιεχόμενο ενός ή περισσοτέρων θεμάτων που μελετούν. Από την επεξεργασία προκύπτουν νέες ιδέες και εμπλουτίζεται η προσέγγιση του υπό μελέτη θέματος.</a:t>
            </a:r>
            <a:endParaRPr b="0" lang="en-US" sz="1800" spc="-1" strike="noStrike">
              <a:solidFill>
                <a:srgbClr val="000000"/>
              </a:solidFill>
              <a:latin typeface="Calibri"/>
            </a:endParaRPr>
          </a:p>
        </p:txBody>
      </p:sp>
      <p:sp>
        <p:nvSpPr>
          <p:cNvPr id="38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62626"/>
                </a:solidFill>
                <a:latin typeface="Calibri"/>
              </a:rPr>
              <a:t>‘</a:t>
            </a:r>
            <a:r>
              <a:rPr b="0" lang="el-GR" sz="2800" spc="-1" strike="noStrike">
                <a:solidFill>
                  <a:srgbClr val="262626"/>
                </a:solidFill>
                <a:latin typeface="Calibri"/>
              </a:rPr>
              <a:t>Μετασχηματίζουσα Μάθηση μέσα από την Τέχνη’</a:t>
            </a:r>
            <a:endParaRPr b="0" lang="en-US" sz="28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τάσεις για την επιλογή αντικείμενων παρατήρησης</a:t>
            </a:r>
            <a:endParaRPr b="0" lang="en-US" sz="2800" spc="-1" strike="noStrike">
              <a:solidFill>
                <a:srgbClr val="775f55"/>
              </a:solidFill>
              <a:latin typeface="Calibri"/>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Έργα μαζικής κουλτούρας  με στόχο να εξεταστούν κριτικά τα στερεοτυπικά  μηνύματα που περιέχουν.</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Έργα τέχνης ως εναύσματα για την ενδυνάμωση της κριτικής σκέψης επάνω σε διάφορα θέματα (χωρίς να λαμβάνεται υπόψη με έμφαση το κριτήριο της αισθητικής τους αξίας).</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ημαντικά έργα τέχνης που συνδυάζουν τον κριτικό στοχασμό με την αισθητική εμπειρί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Εφαρμογή της μεθόδου</a:t>
            </a:r>
            <a:endParaRPr b="0" lang="en-US" sz="2800" spc="-1" strike="noStrike">
              <a:solidFill>
                <a:srgbClr val="775f55"/>
              </a:solidFill>
              <a:latin typeface="Calibri"/>
            </a:endParaRPr>
          </a:p>
        </p:txBody>
      </p:sp>
      <p:sp>
        <p:nvSpPr>
          <p:cNvPr id="388"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Πρώ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Προσδιορισμός της ανάγκης για κριτική διερεύνηση του θέματος</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Δεύτερο στάδιο:</a:t>
            </a:r>
            <a:endParaRPr b="0" lang="en-US" sz="16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Έκφραση απόψεων εκπαιδευομένων</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Τρί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Προσδιορισμός των υποθεμάτων και των κριτικών ερωτημάτων</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Τέταρ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Επιλογή των έργων τέχνης και συσχέτισή τους με τα κριτικά ερωτήματα</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Πέμπ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Επεξεργασία των έργων τέχνης και συσχέτισή τους με τα κριτικά ερωτήματα</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Έκτο στάδιο:</a:t>
            </a:r>
            <a:endParaRPr b="0" lang="en-US" sz="16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ριτικός αναστοχασμός και αποτίμηση της ανάπτυξης της ικανότητας για κριτικό/ δημιουργικό στοχασμό</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Πιο συγκεκριμένα στο Πέμπτο στάδιο ακολουθείται…</a:t>
            </a:r>
            <a:endParaRPr b="0" lang="en-US" sz="2800" spc="-1" strike="noStrike">
              <a:solidFill>
                <a:srgbClr val="775f55"/>
              </a:solidFill>
              <a:latin typeface="Calibri"/>
            </a:endParaRPr>
          </a:p>
        </p:txBody>
      </p:sp>
      <p:sp>
        <p:nvSpPr>
          <p:cNvPr id="39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1</a:t>
            </a:r>
            <a:r>
              <a:rPr b="0" lang="el-GR" sz="1800" spc="-1" strike="noStrike" baseline="30000">
                <a:solidFill>
                  <a:srgbClr val="000000"/>
                </a:solidFill>
                <a:latin typeface="Calibri"/>
              </a:rPr>
              <a:t>η</a:t>
            </a:r>
            <a:r>
              <a:rPr b="0" lang="el-GR" sz="1800" spc="-1" strike="noStrike">
                <a:solidFill>
                  <a:srgbClr val="000000"/>
                </a:solidFill>
                <a:latin typeface="Calibri"/>
              </a:rPr>
              <a:t> φάση: Εισαγωγικές παρατηρήσεις: χρόνος για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2</a:t>
            </a:r>
            <a:r>
              <a:rPr b="0" lang="el-GR" sz="1800" spc="-1" strike="noStrike" baseline="30000">
                <a:solidFill>
                  <a:srgbClr val="000000"/>
                </a:solidFill>
                <a:latin typeface="Calibri"/>
              </a:rPr>
              <a:t>η</a:t>
            </a:r>
            <a:r>
              <a:rPr b="0" lang="el-GR" sz="1800" spc="-1" strike="noStrike">
                <a:solidFill>
                  <a:srgbClr val="000000"/>
                </a:solidFill>
                <a:latin typeface="Calibri"/>
              </a:rPr>
              <a:t> φάση: </a:t>
            </a:r>
            <a:r>
              <a:rPr b="0" lang="en-US" sz="1800" spc="-1" strike="noStrike">
                <a:solidFill>
                  <a:srgbClr val="000000"/>
                </a:solidFill>
                <a:latin typeface="Tw Cen MT"/>
              </a:rPr>
              <a:t>X</a:t>
            </a:r>
            <a:r>
              <a:rPr b="0" lang="el-GR" sz="1800" spc="-1" strike="noStrike">
                <a:solidFill>
                  <a:srgbClr val="000000"/>
                </a:solidFill>
                <a:latin typeface="Calibri"/>
              </a:rPr>
              <a:t>ρόνος για ευρεία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3</a:t>
            </a:r>
            <a:r>
              <a:rPr b="0" lang="el-GR" sz="1800" spc="-1" strike="noStrike" baseline="30000">
                <a:solidFill>
                  <a:srgbClr val="000000"/>
                </a:solidFill>
                <a:latin typeface="Calibri"/>
              </a:rPr>
              <a:t>η</a:t>
            </a:r>
            <a:r>
              <a:rPr b="0" lang="el-GR" sz="1800" spc="-1" strike="noStrike">
                <a:solidFill>
                  <a:srgbClr val="000000"/>
                </a:solidFill>
                <a:latin typeface="Calibri"/>
              </a:rPr>
              <a:t> φάση: Λεπτομερής και σε βάθος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4</a:t>
            </a:r>
            <a:r>
              <a:rPr b="0" lang="el-GR" sz="1800" spc="-1" strike="noStrike" baseline="30000">
                <a:solidFill>
                  <a:srgbClr val="000000"/>
                </a:solidFill>
                <a:latin typeface="Calibri"/>
              </a:rPr>
              <a:t>η</a:t>
            </a:r>
            <a:r>
              <a:rPr b="0" lang="el-GR" sz="1800" spc="-1" strike="noStrike">
                <a:solidFill>
                  <a:srgbClr val="000000"/>
                </a:solidFill>
                <a:latin typeface="Calibri"/>
              </a:rPr>
              <a:t> φάση: Σύνθεση - Συμπεράσματα</a:t>
            </a:r>
            <a:endParaRPr b="0" lang="en-US" sz="1800" spc="-1" strike="noStrike">
              <a:solidFill>
                <a:srgbClr val="000000"/>
              </a:solidFill>
              <a:latin typeface="Calibri"/>
            </a:endParaRPr>
          </a:p>
        </p:txBody>
      </p:sp>
      <p:sp>
        <p:nvSpPr>
          <p:cNvPr id="391" name=""/>
          <p:cNvSpPr txBox="1"/>
          <p:nvPr/>
        </p:nvSpPr>
        <p:spPr>
          <a:xfrm>
            <a:off x="4800240" y="2636640"/>
            <a:ext cx="3886200" cy="3382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βλέπεις (διαβάζεις ή ακούς);</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συμβαίνει;</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παρατηρείς που σε κάνει να το λες αυτό;</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σε κάνει να αναρωτιέσαι;</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οιους προβληματισμούς σου προκαλεί;</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η τεχνική του </a:t>
            </a:r>
            <a:r>
              <a:rPr b="0" lang="en-US" sz="1800" spc="-1" strike="noStrike">
                <a:solidFill>
                  <a:srgbClr val="262626"/>
                </a:solidFill>
                <a:latin typeface="Tw Cen MT"/>
              </a:rPr>
              <a:t>Perkins</a:t>
            </a:r>
            <a:r>
              <a:rPr b="0" lang="el-GR" sz="1800" spc="-1" strike="noStrike">
                <a:solidFill>
                  <a:srgbClr val="262626"/>
                </a:solidFill>
                <a:latin typeface="Calibri"/>
              </a:rPr>
              <a:t> (1994)(ολιστική άποψη για το έργο τέχνης)</a:t>
            </a:r>
            <a:endParaRPr b="0" lang="en-US" sz="1800" spc="-1" strike="noStrike">
              <a:solidFill>
                <a:srgbClr val="000000"/>
              </a:solidFill>
              <a:latin typeface="Calibri"/>
            </a:endParaRPr>
          </a:p>
        </p:txBody>
      </p:sp>
      <p:sp>
        <p:nvSpPr>
          <p:cNvPr id="393" name="PlaceHolder 3"/>
          <p:cNvSpPr>
            <a:spLocks noGrp="1"/>
          </p:cNvSpPr>
          <p:nvPr>
            <p:ph/>
          </p:nvPr>
        </p:nvSpPr>
        <p:spPr>
          <a:xfrm>
            <a:off x="4858920" y="1773000"/>
            <a:ext cx="3886200" cy="863640"/>
          </a:xfrm>
          <a:prstGeom prst="rect">
            <a:avLst/>
          </a:prstGeom>
          <a:solidFill>
            <a:srgbClr val="d8b25c"/>
          </a:solidFill>
          <a:ln w="0">
            <a:noFill/>
          </a:ln>
        </p:spPr>
        <p:txBody>
          <a:bodyPr anchor="ctr">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η τεχνική του </a:t>
            </a:r>
            <a:r>
              <a:rPr b="0" lang="en-US" sz="1800" spc="-1" strike="noStrike">
                <a:solidFill>
                  <a:srgbClr val="262626"/>
                </a:solidFill>
                <a:latin typeface="Tw Cen MT"/>
              </a:rPr>
              <a:t>Visible Thinking</a:t>
            </a:r>
            <a:r>
              <a:rPr b="0" lang="el-GR" sz="1800" spc="-1" strike="noStrike">
                <a:solidFill>
                  <a:srgbClr val="262626"/>
                </a:solidFill>
                <a:latin typeface="Calibri"/>
              </a:rPr>
              <a:t> (εκμαιευτικές ερωτήσεις με ευέλικτη σειρά)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Βιβλιογραφία</a:t>
            </a:r>
            <a:endParaRPr b="0" lang="en-US" sz="2800" spc="-1" strike="noStrike">
              <a:solidFill>
                <a:srgbClr val="775f55"/>
              </a:solidFill>
              <a:latin typeface="Calibri"/>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orno. Th. </a:t>
            </a:r>
            <a:r>
              <a:rPr b="0" lang="el-GR" sz="1800" spc="-1" strike="noStrike">
                <a:solidFill>
                  <a:srgbClr val="000000"/>
                </a:solidFill>
                <a:latin typeface="Calibri"/>
              </a:rPr>
              <a:t>κά. (1953/1984) Τέχνη και Μαζική Κουλτούρα Αθήνα: Ύψιλον</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orno, Th. (1970/2000) </a:t>
            </a:r>
            <a:r>
              <a:rPr b="0" lang="el-GR" sz="1800" spc="-1" strike="noStrike">
                <a:solidFill>
                  <a:srgbClr val="000000"/>
                </a:solidFill>
                <a:latin typeface="Calibri"/>
              </a:rPr>
              <a:t>Αισθητική Θεωρία Αθήνα: Αλεξάνδρεια</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όκκος,Α. και Συνεργάτες (2011) Εκπαίδευση μέσα από τις Τέχνες. Αθήνα: Μεταίχμιο</a:t>
            </a:r>
            <a:endParaRPr b="0" lang="en-US" sz="1800" spc="-1" strike="noStrike">
              <a:solidFill>
                <a:srgbClr val="000000"/>
              </a:solidFill>
              <a:latin typeface="Calibri"/>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artre, J.P. (1949/2008) </a:t>
            </a:r>
            <a:r>
              <a:rPr b="0" lang="el-GR" sz="1800" spc="-1" strike="noStrike">
                <a:solidFill>
                  <a:srgbClr val="000000"/>
                </a:solidFill>
                <a:latin typeface="Calibri"/>
              </a:rPr>
              <a:t>Τι είναι Λογοτεχνία; Αθήνα: Μεταίχμιο</a:t>
            </a:r>
            <a:endParaRPr b="0" lang="en-US" sz="1800" spc="-1" strike="noStrike">
              <a:solidFill>
                <a:srgbClr val="000000"/>
              </a:solidFill>
              <a:latin typeface="Calibri"/>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zlawick, P. (1986) </a:t>
            </a:r>
            <a:r>
              <a:rPr b="0" lang="el-GR" sz="1800" spc="-1" strike="noStrike">
                <a:solidFill>
                  <a:srgbClr val="000000"/>
                </a:solidFill>
                <a:latin typeface="Calibri"/>
              </a:rPr>
              <a:t>Η Γλώσσα της Αλλαγής. Αθήνα: Κέδρος</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ning, A. and Ring, K. (2004) Making sense of children’s drawings, Maidenshead, Berkshire and New York: Open University Press. </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wey, J. (1934/1980) Art as Experience. USA: The Penguin Group</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isner, E. (2002) The arts and the creation of mind, New Haven and London: Yale University Press.</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reedman, K. (2003) Teaching visual culture: curriculum, aesthetics and the social life of art, New York and London: Teachers College Press. </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Βιβλιογραφία</a:t>
            </a:r>
            <a:endParaRPr b="0" lang="en-US" sz="2800" spc="-1" strike="noStrike">
              <a:solidFill>
                <a:srgbClr val="775f55"/>
              </a:solidFill>
              <a:latin typeface="Calibri"/>
            </a:endParaRPr>
          </a:p>
        </p:txBody>
      </p:sp>
      <p:sp>
        <p:nvSpPr>
          <p:cNvPr id="397"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dner, H. (1973) The Arts and human Development . New York: Wiley</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dner, H. (1983) Frames of mind: The theory of multiple intelligences. New York: Basic Books</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ner, H. (1990) Art Education and Human Development. Los Angeles: The Getty Education Institute for the Arts</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Kolb, D., Rubin,I. ,&amp; Osland, J. (1991) Organizational Behaviour: An Experiential Approach. New York, N.Y.: Prentice-Hall</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ezirow, J. (2009) An Overview on Transformative Learning In K. Illeris (Ed). Contemporary Theories of Learning. (p.90-105) London/ New York: Routeledge</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kins, D. (1994) The Intelligent Eye: Learning to think by Looking at Art. The Getty Education Institute for the Arts. Los Angeles, California</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tzlawick, P., Beavin Bavelas, J., Jackson, D. (1967) Pragmatics of Human Communication. New York/London: WW Norton and Company</a:t>
            </a:r>
            <a:endParaRPr b="0" lang="en-US" sz="2000" spc="-1" strike="noStrike">
              <a:solidFill>
                <a:srgbClr val="000000"/>
              </a:solidFill>
              <a:latin typeface="Calibri"/>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αποτελεί το κατεξοχήν μέσο για την ανάπτυξη της φαντασίας, η οποία αποτελεί θεμελιώδες στοιχείο της διεργασίας της μάθησης.</a:t>
            </a:r>
            <a:endParaRPr b="0" lang="en-US" sz="20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αποτελεί πρόκληση για σκέψη.</a:t>
            </a:r>
            <a:endParaRPr b="0" lang="en-US" sz="2000" spc="-1" strike="noStrike">
              <a:solidFill>
                <a:srgbClr val="000000"/>
              </a:solidFill>
              <a:latin typeface="Calibri"/>
            </a:endParaRPr>
          </a:p>
        </p:txBody>
      </p:sp>
      <p:sp>
        <p:nvSpPr>
          <p:cNvPr id="36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John Dewey (1934/198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Ελένη Ξανθάκου</a:t>
            </a:r>
            <a:endParaRPr b="0" lang="en-US" sz="1800" spc="-1" strike="noStrike">
              <a:solidFill>
                <a:srgbClr val="000000"/>
              </a:solidFill>
              <a:latin typeface="Calibri"/>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Tw Cen MT"/>
                <a:hlinkClick r:id="rId1"/>
              </a:rPr>
              <a:t>elexanth@yahoo.gr</a:t>
            </a:r>
            <a:endParaRPr b="0" lang="en-US" sz="1800" spc="-1" strike="noStrike">
              <a:solidFill>
                <a:srgbClr val="000000"/>
              </a:solidFill>
              <a:latin typeface="Calibri"/>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2o</a:t>
            </a:r>
            <a:r>
              <a:rPr b="0" lang="el-GR" sz="1800" spc="-1" strike="noStrike">
                <a:solidFill>
                  <a:srgbClr val="ffffff"/>
                </a:solidFill>
                <a:latin typeface="Calibri"/>
              </a:rPr>
              <a:t>ΠΠΓ Αθήνας</a:t>
            </a:r>
            <a:endParaRPr b="0" lang="en-US" sz="1800" spc="-1" strike="noStrike">
              <a:solidFill>
                <a:srgbClr val="000000"/>
              </a:solidFill>
              <a:latin typeface="Calibri"/>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Ευχαριστώ.</a:t>
            </a:r>
            <a:endParaRPr b="0" lang="en-US" sz="1800" spc="-1" strike="noStrike">
              <a:solidFill>
                <a:srgbClr val="000000"/>
              </a:solidFill>
              <a:latin typeface="Calibri"/>
            </a:endParaRPr>
          </a:p>
        </p:txBody>
      </p:sp>
      <p:sp>
        <p:nvSpPr>
          <p:cNvPr id="399" name=""/>
          <p:cNvSpPr txBox="1"/>
          <p:nvPr/>
        </p:nvSpPr>
        <p:spPr>
          <a:xfrm>
            <a:off x="2362320" y="1752120"/>
            <a:ext cx="6400800" cy="4419720"/>
          </a:xfrm>
          <a:prstGeom prst="rect">
            <a:avLst/>
          </a:prstGeom>
          <a:noFill/>
          <a:ln w="0">
            <a:noFill/>
          </a:ln>
        </p:spPr>
        <p:txBody>
          <a:bodyPr anchor="t">
            <a:normAutofit/>
          </a:bodyPr>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	</a:t>
            </a:r>
            <a:r>
              <a:rPr b="0" i="1" lang="en-US" sz="2000" spc="-1" strike="noStrike">
                <a:solidFill>
                  <a:srgbClr val="000000"/>
                </a:solidFill>
                <a:latin typeface="Tw Cen MT"/>
              </a:rPr>
              <a:t>‘</a:t>
            </a:r>
            <a:r>
              <a:rPr b="0" i="1" lang="en-US" sz="2000" spc="-1" strike="noStrike">
                <a:solidFill>
                  <a:srgbClr val="000000"/>
                </a:solidFill>
                <a:latin typeface="Tw Cen MT"/>
              </a:rPr>
              <a:t>There are two goals in the learning process. One is to learn the specifics of a particular subject matter. The other is to learn about one’s own strengths and weaknesses as a learner” </a:t>
            </a:r>
            <a:r>
              <a:rPr b="0" lang="en-US" sz="2000" spc="-1" strike="noStrike">
                <a:solidFill>
                  <a:srgbClr val="000000"/>
                </a:solidFill>
                <a:latin typeface="Tw Cen MT"/>
              </a:rPr>
              <a:t>(Handbook </a:t>
            </a:r>
            <a:r>
              <a:rPr b="0" i="1" lang="en-US" sz="2000" spc="-1" strike="noStrike">
                <a:solidFill>
                  <a:srgbClr val="000000"/>
                </a:solidFill>
                <a:latin typeface="Tw Cen MT"/>
              </a:rPr>
              <a:t>of </a:t>
            </a:r>
            <a:r>
              <a:rPr b="0" lang="en-US" sz="2000" spc="-1" strike="noStrike">
                <a:solidFill>
                  <a:srgbClr val="000000"/>
                </a:solidFill>
                <a:latin typeface="Tw Cen MT"/>
              </a:rPr>
              <a:t>Kolb, Rubin &amp; Osland, 199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Tw Cen MT"/>
              </a:rPr>
              <a:t>‘</a:t>
            </a:r>
            <a:r>
              <a:rPr b="0" i="1" lang="el-GR" sz="2000" spc="-1" strike="noStrike">
                <a:solidFill>
                  <a:srgbClr val="262626"/>
                </a:solidFill>
                <a:latin typeface="Calibri"/>
              </a:rPr>
              <a:t>Ο αναγνώστης πρέπει να εφευρίσκει τα πάντα ξεπερνώντας διαρκώς τα γραφόμενα… Η ανάγνωση είναι κατευθυνόμενη δημιουργία.’</a:t>
            </a:r>
            <a:endParaRPr b="0" lang="en-US" sz="2000" spc="-1" strike="noStrike">
              <a:solidFill>
                <a:srgbClr val="000000"/>
              </a:solidFill>
              <a:latin typeface="Calibri"/>
            </a:endParaRPr>
          </a:p>
        </p:txBody>
      </p:sp>
      <p:sp>
        <p:nvSpPr>
          <p:cNvPr id="36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Sartre (1949/2008)</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προσφέρει τη δυνατότητα  να επεξεργαζόμαστε πλήθος συμβόλων μέσω των οποίων γίνεται δυνατή η έκφραση διαφόρων όψεων της πραγματικότητας, που βοηθάει να συνειδητοποιείται ό,τι δεν μπορεί να είναι εύκολα κατανοητό μέσω των ορθολογικών επιχειρημάτων.</a:t>
            </a:r>
            <a:endParaRPr b="0" lang="en-US" sz="2000" spc="-1" strike="noStrike">
              <a:solidFill>
                <a:srgbClr val="000000"/>
              </a:solidFill>
              <a:latin typeface="Calibri"/>
            </a:endParaRPr>
          </a:p>
        </p:txBody>
      </p:sp>
      <p:sp>
        <p:nvSpPr>
          <p:cNvPr id="36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Howard Gardner (1973,1983,199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Για να μπορεί ο άνθρωπος να σκέφτεται ολοκληρωμένα χρειάζεται  η ισότιμη και αλληλοσυμπληρωνόμενη λειτουργία των δύο ημισφαιρίων του εγκεφάλου.</a:t>
            </a:r>
            <a:endParaRPr b="0" lang="en-US" sz="2000" spc="-1" strike="noStrike">
              <a:solidFill>
                <a:srgbClr val="000000"/>
              </a:solidFill>
              <a:latin typeface="Calibri"/>
            </a:endParaRPr>
          </a:p>
          <a:p>
            <a:pPr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262626"/>
                </a:solidFill>
                <a:latin typeface="Calibri"/>
              </a:rPr>
              <a:t>Αριστερό ημισφαίριο: εκλογίκευση, ορθολογική κατανόηση</a:t>
            </a:r>
            <a:endParaRPr b="0" lang="en-US" sz="1800" spc="-1" strike="noStrike">
              <a:solidFill>
                <a:srgbClr val="000000"/>
              </a:solidFill>
              <a:latin typeface="Calibri"/>
            </a:endParaRPr>
          </a:p>
          <a:p>
            <a:pPr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262626"/>
                </a:solidFill>
                <a:latin typeface="Calibri"/>
              </a:rPr>
              <a:t>Δεξιό ημισφαίριο: διαισθητική, ολιστική σύλληψη πολύπλοκων σχέσεων</a:t>
            </a:r>
            <a:endParaRPr b="0" lang="en-US" sz="1800" spc="-1" strike="noStrike">
              <a:solidFill>
                <a:srgbClr val="000000"/>
              </a:solidFill>
              <a:latin typeface="Calibri"/>
            </a:endParaRPr>
          </a:p>
        </p:txBody>
      </p:sp>
      <p:sp>
        <p:nvSpPr>
          <p:cNvPr id="36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τοχαστές του </a:t>
            </a:r>
            <a:r>
              <a:rPr b="0" lang="en-US" sz="2000" spc="-1" strike="noStrike">
                <a:solidFill>
                  <a:srgbClr val="262626"/>
                </a:solidFill>
                <a:latin typeface="Tw Cen MT"/>
              </a:rPr>
              <a:t>Palo Alto </a:t>
            </a:r>
            <a:r>
              <a:rPr b="0" lang="el-GR" sz="2000" spc="-1" strike="noStrike">
                <a:solidFill>
                  <a:srgbClr val="262626"/>
                </a:solidFill>
                <a:latin typeface="Calibri"/>
              </a:rPr>
              <a:t>της Καλιφόρνιας (</a:t>
            </a:r>
            <a:r>
              <a:rPr b="0" lang="en-US" sz="2000" spc="-1" strike="noStrike">
                <a:solidFill>
                  <a:srgbClr val="262626"/>
                </a:solidFill>
                <a:latin typeface="Tw Cen MT"/>
              </a:rPr>
              <a:t>Watzlawick, Beavin Bavelas, Jackson, 1967 &amp; Watzlawick, 1986)</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Η επαφή με την τέχνη προσφέρει κριτήρια που βοηθούν να απεγκλωβιζόμαστε  από τις κυρίαρχες νόρμες και να αμφισβητούμε τις παραδοχές που είναι εγκαθιδρυμένες στις κοινωνικές και παραγωγικές σχέσεις.</a:t>
            </a:r>
            <a:endParaRPr b="0" lang="en-US" sz="2000" spc="-1" strike="noStrike">
              <a:solidFill>
                <a:srgbClr val="000000"/>
              </a:solidFill>
              <a:latin typeface="Calibri"/>
            </a:endParaRPr>
          </a:p>
        </p:txBody>
      </p:sp>
      <p:sp>
        <p:nvSpPr>
          <p:cNvPr id="36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χολή της Φρανκφούρτης </a:t>
            </a:r>
            <a:r>
              <a:rPr b="0" lang="en-US" sz="2000" spc="-1" strike="noStrike">
                <a:solidFill>
                  <a:srgbClr val="262626"/>
                </a:solidFill>
                <a:latin typeface="Tw Cen MT"/>
              </a:rPr>
              <a:t>(Adorno, 1953/1984, 1970/200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Μετασχηματίζουσα μάθηση είναι η διεργασία μέσω της οποίας μετασχηματίζουμε προβληματικά  πλαίσια αναφοράς(δομές σκέψεων, νοητικές συνήθειες, νοηματικές προοπτικές)- δομές παραδοχών και προσδοκιών- έτσι ώστε να τις κάνουμε πιο περιεκτικές, ευδιάκριτες, ανοικτές, στοχαστικές και συναισθηματικά δεκτικές στην αλλαγή’.</a:t>
            </a:r>
            <a:endParaRPr b="0" lang="en-US" sz="1800" spc="-1" strike="noStrike">
              <a:solidFill>
                <a:srgbClr val="000000"/>
              </a:solidFill>
              <a:latin typeface="Calibri"/>
            </a:endParaRPr>
          </a:p>
        </p:txBody>
      </p:sp>
      <p:sp>
        <p:nvSpPr>
          <p:cNvPr id="37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Mezirow Jack (</a:t>
            </a:r>
            <a:r>
              <a:rPr b="0" lang="el-GR" sz="2000" spc="-1" strike="noStrike">
                <a:solidFill>
                  <a:srgbClr val="262626"/>
                </a:solidFill>
                <a:latin typeface="Calibri"/>
              </a:rPr>
              <a:t>2009</a:t>
            </a:r>
            <a:r>
              <a:rPr b="0" lang="en-US" sz="2000" spc="-1" strike="noStrike">
                <a:solidFill>
                  <a:srgbClr val="262626"/>
                </a:solidFill>
                <a:latin typeface="Tw Cen MT"/>
              </a:rPr>
              <a:t>)</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Εικαστικές Τέχνες</a:t>
            </a:r>
            <a:endParaRPr b="0" lang="en-US" sz="2800" spc="-1" strike="noStrike">
              <a:solidFill>
                <a:srgbClr val="775f55"/>
              </a:solidFill>
              <a:latin typeface="Calibri"/>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ολλές διαφορετικές μορφές και τεχνικές, παραδοσιακές και νεότερες </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Καλές και εφαρμοσμένες τέχνες</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οικίλες εικόνες και προϊόντα της σύγχρονης τοπικής και παγκόσμιας οπτικής παραγωγής και επικοινωνίας, που λόγω της ανάπτυξης της τεχνολογίας και των μέσων μαζικής επικοινωνίας, κατακλύζουν και διαμορφώνουν  την καθημερινότητά μας και συγκροτούν το καθημερινό οπτικά προσδιοριζόμενο πολιτισμό μας </a:t>
            </a:r>
            <a:r>
              <a:rPr b="1" lang="el-GR" sz="2000" spc="-1" strike="noStrike">
                <a:solidFill>
                  <a:srgbClr val="262626"/>
                </a:solidFill>
                <a:latin typeface="Calibri"/>
              </a:rPr>
              <a:t>(</a:t>
            </a:r>
            <a:r>
              <a:rPr b="1" lang="en-GB" sz="2000" spc="-1" strike="noStrike">
                <a:solidFill>
                  <a:srgbClr val="262626"/>
                </a:solidFill>
                <a:latin typeface="Tw Cen MT"/>
              </a:rPr>
              <a:t>visual culture)</a:t>
            </a:r>
            <a:r>
              <a:rPr b="0" lang="en-GB" sz="2000" spc="-1" strike="noStrike">
                <a:solidFill>
                  <a:srgbClr val="000000"/>
                </a:solidFill>
                <a:latin typeface="Tw Cen MT"/>
              </a:rPr>
              <a:t> (Freedman, 200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Γιατί εστιάζουμε στις Εικαστικές Τέχνες</a:t>
            </a:r>
            <a:endParaRPr b="0" lang="en-US" sz="2800" spc="-1" strike="noStrike">
              <a:solidFill>
                <a:srgbClr val="775f55"/>
              </a:solidFill>
              <a:latin typeface="Calibri"/>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έχουν τη δική τους ‘οπτική γλώσσ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Χρώ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Γραμμή</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όνος</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Μοτίβο</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Υφή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ή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Φόρ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Χώρος</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ύνθεσ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5T07:08:06Z</dcterms:created>
  <dc:creator>Lena</dc:creator>
  <dc:description/>
  <dc:language>en-US</dc:language>
  <cp:lastModifiedBy>USER</cp:lastModifiedBy>
  <dcterms:modified xsi:type="dcterms:W3CDTF">2015-03-17T05:30:19Z</dcterms:modified>
  <cp:revision>52</cp:revision>
  <dc:subject/>
  <dc:title>Εκπαίδευση μέσα από την τέχνη</dc:title>
</cp:coreProperties>
</file>